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90.jpeg" ContentType="image/jpeg"/>
  <Override PartName="/ppt/media/image17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9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28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55.jpeg" ContentType="image/jpeg"/>
  <Override PartName="/ppt/media/image134.jpeg" ContentType="image/jpeg"/>
  <Override PartName="/ppt/media/image146.jpeg" ContentType="image/jpeg"/>
  <Override PartName="/ppt/media/image152.jpeg" ContentType="image/jpeg"/>
  <Override PartName="/ppt/media/image56.jpeg" ContentType="image/jpeg"/>
  <Override PartName="/ppt/media/image135.jpeg" ContentType="image/jpeg"/>
  <Override PartName="/ppt/media/image147.jpeg" ContentType="image/jpeg"/>
  <Override PartName="/ppt/media/image130.jpeg" ContentType="image/jpeg"/>
  <Override PartName="/ppt/media/image51.jpeg" ContentType="image/jpeg"/>
  <Override PartName="/ppt/media/image153.jpeg" ContentType="image/jpeg"/>
  <Override PartName="/ppt/media/image57.jpeg" ContentType="image/jpeg"/>
  <Override PartName="/ppt/media/image136.jpeg" ContentType="image/jpeg"/>
  <Override PartName="/ppt/media/image148.jpeg" ContentType="image/jpeg"/>
  <Override PartName="/ppt/media/image131.jpeg" ContentType="image/jpeg"/>
  <Override PartName="/ppt/media/image52.jpeg" ContentType="image/jpeg"/>
  <Override PartName="/ppt/media/image58.jpeg" ContentType="image/jpeg"/>
  <Override PartName="/ppt/media/image137.jpeg" ContentType="image/jpeg"/>
  <Override PartName="/ppt/media/image149.jpeg" ContentType="image/jpeg"/>
  <Override PartName="/ppt/media/image53.jpeg" ContentType="image/jpeg"/>
  <Override PartName="/ppt/media/image132.jpeg" ContentType="image/jpeg"/>
  <Override PartName="/ppt/media/image150.jpeg" ContentType="image/jpeg"/>
  <Override PartName="/ppt/media/image71.jpeg" ContentType="image/jpeg"/>
  <Override PartName="/ppt/media/image144.jpeg" ContentType="image/jpeg"/>
  <Override PartName="/ppt/media/image151.jpeg" ContentType="image/jpeg"/>
  <Override PartName="/ppt/media/image54.jpeg" ContentType="image/jpeg"/>
  <Override PartName="/ppt/media/image133.jpeg" ContentType="image/jpeg"/>
  <Override PartName="/ppt/media/image145.jpeg" ContentType="image/jpeg"/>
  <Override PartName="/ppt/media/image8.jpeg" ContentType="image/jpeg"/>
  <Override PartName="/ppt/media/image156.jpeg" ContentType="image/jpeg"/>
  <Override PartName="/ppt/media/image60.jpeg" ContentType="image/jpeg"/>
  <Override PartName="/ppt/media/image77.jpeg" ContentType="image/jpeg"/>
  <Override PartName="/ppt/media/image143.jpeg" ContentType="image/jpeg"/>
  <Override PartName="/ppt/media/image142.jpeg" ContentType="image/jpeg"/>
  <Override PartName="/ppt/media/image141.jpeg" ContentType="image/jpeg"/>
  <Override PartName="/ppt/media/image140.jpeg" ContentType="image/jpeg"/>
  <Override PartName="/ppt/media/image47.jpeg" ContentType="image/jpeg"/>
  <Override PartName="/ppt/media/image138.jpeg" ContentType="image/jpeg"/>
  <Override PartName="/ppt/media/image42.jpeg" ContentType="image/jpeg"/>
  <Override PartName="/ppt/media/image59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155.jpeg" ContentType="image/jpeg"/>
  <Override PartName="/ppt/media/image129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54.jpeg" ContentType="image/jpeg"/>
  <Override PartName="/ppt/media/image12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375-0DC5-4301-B5BE-E765EA72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6C2-9CC7-4A72-BFA1-BAF66CA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A58-6C40-4C41-B8C7-AEA8EE02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2B9-9BCA-4722-BE00-CC344220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74CB-A03E-449D-8BC9-2A9E3447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5722-214C-4B8C-A0FC-B9CE8058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80F7-4FAA-476B-A5C8-EEC738E6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DE10-6329-4F60-86CB-AAD1AD85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B502-45E5-489B-8CBF-E7A27B5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4B30-8600-488D-9D7D-489D1AD4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2F20-8F00-4FBB-8E27-4DCC71D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95B-B201-4A6C-B277-59499A0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4BD-B8D0-4FAB-A616-C97C349A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ECFD-BBB6-4365-AF89-0FB77F8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86D3-47AA-4166-B9D2-ED2A1667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922D-48DB-49B0-AFC0-19D69EF7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1F32-5412-48F7-AAEB-6D8542B9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B86-198C-4472-9AD5-1E9F1A57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77A-5582-45BF-9CD5-566B82C8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0CB-4EF2-485A-9EEF-0310D7B7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1DD-23B3-42E8-8682-E62AEA75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B4B-D91D-4FBD-B4CB-3D7974A8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5BC-8ED0-4844-927F-4B923DAD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199-7820-42F3-9BEE-5EDE609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3D79-9D62-4FEE-BACC-E3C802B4822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A83C-2FBF-42F1-8120-4F7C9D1DCA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enexport.ro/ro/shop/imgprod/coacneg1a.jpg" TargetMode="External"/><Relationship Id="rId2" Type="http://schemas.openxmlformats.org/officeDocument/2006/relationships/image" Target="../media/image61.jpeg"/><Relationship Id="rId3" Type="http://schemas.openxmlformats.org/officeDocument/2006/relationships/hyperlink" Target="http://www.penexport.ro/ro/shop/imgprod/catina1a.jpg" TargetMode="External"/><Relationship Id="rId4" Type="http://schemas.openxmlformats.org/officeDocument/2006/relationships/image" Target="../media/image62.jpeg"/><Relationship Id="rId5" Type="http://schemas.openxmlformats.org/officeDocument/2006/relationships/hyperlink" Target="http://www.penexport.ro/ro/shop/imgprod/zmeura1a.jpg" TargetMode="External"/><Relationship Id="rId6" Type="http://schemas.openxmlformats.org/officeDocument/2006/relationships/image" Target="../media/image63.jpeg"/><Relationship Id="rId7" Type="http://schemas.openxmlformats.org/officeDocument/2006/relationships/hyperlink" Target="http://www.penexport.ro/ro/shop/imgprod/paducel1a.jpg" TargetMode="External"/><Relationship Id="rId8" Type="http://schemas.openxmlformats.org/officeDocument/2006/relationships/image" Target="../media/image64.jpeg"/><Relationship Id="rId9" Type="http://schemas.openxmlformats.org/officeDocument/2006/relationships/hyperlink" Target="http://www.carpati.org/poze_fotografii/--_muntele_nu_este_in_lista_--/fraguta/22152/" TargetMode="External"/><Relationship Id="rId10" Type="http://schemas.openxmlformats.org/officeDocument/2006/relationships/image" Target="../media/image65.jpeg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hyperlink" Target="http://www.penexport.ro/ro/shop/imgprod/afine1a.jpg" TargetMode="External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hyperlink" Target="http://bp3.blogger.com/_od0KfUND3QQ/RwoWDqj11dI/AAAAAAAABZ8/EzUtqzi4s_E/s1600-h/toamna_apuseni_0040.jpg" TargetMode="External"/><Relationship Id="rId6" Type="http://schemas.openxmlformats.org/officeDocument/2006/relationships/image" Target="../media/image69.jpeg"/><Relationship Id="rId7" Type="http://schemas.openxmlformats.org/officeDocument/2006/relationships/hyperlink" Target="http://www.carpati.org/poze_fotografii/--_muntele_nu_este_in_lista_--/muraris/22149/" TargetMode="External"/><Relationship Id="rId8" Type="http://schemas.openxmlformats.org/officeDocument/2006/relationships/image" Target="../media/image70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hyperlink" Target="http://www.penexport.ro/ro/shop/imgprod/mure1a.jpg" TargetMode="External"/><Relationship Id="rId11" Type="http://schemas.openxmlformats.org/officeDocument/2006/relationships/image" Target="../media/image71.jpe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p0.blogger.com/_od0KfUND3QQ/RrsSLdzmqOI/AAAAAAAAA4Y/1sVl2b9UQL4/s1600-h/galbiori_0305.jpg" TargetMode="External"/><Relationship Id="rId2" Type="http://schemas.openxmlformats.org/officeDocument/2006/relationships/image" Target="../media/image74.jpeg"/><Relationship Id="rId3" Type="http://schemas.openxmlformats.org/officeDocument/2006/relationships/hyperlink" Target="http://bp2.blogger.com/_od0KfUND3QQ/RrsSK9zmqMI/AAAAAAAAA4I/j_xVElRvU04/s1600-h/galbiori_0299.jpg" TargetMode="External"/><Relationship Id="rId4" Type="http://schemas.openxmlformats.org/officeDocument/2006/relationships/image" Target="../media/image75.jpeg"/><Relationship Id="rId5" Type="http://schemas.openxmlformats.org/officeDocument/2006/relationships/hyperlink" Target="http://www.carpati.org/poze_fotografii/--_muntele_nu_este_in_lista_--/ce_sa_fie_ce_sa_fie_ou_sau_ciuperca_/22161/" TargetMode="External"/><Relationship Id="rId6" Type="http://schemas.openxmlformats.org/officeDocument/2006/relationships/image" Target="../media/image76.jpeg"/><Relationship Id="rId7" Type="http://schemas.openxmlformats.org/officeDocument/2006/relationships/hyperlink" Target="http://www.carpati.org/poze_fotografii/--_muntele_nu_este_in_lista_--/palaria_sarpelui/22166/" TargetMode="External"/><Relationship Id="rId8" Type="http://schemas.openxmlformats.org/officeDocument/2006/relationships/image" Target="../media/image77.jpeg"/><Relationship Id="rId9" Type="http://schemas.openxmlformats.org/officeDocument/2006/relationships/hyperlink" Target="http://www.carpati.org/poze_fotografii/--_muntele_nu_este_in_lista_--/umbreluta/22160/" TargetMode="External"/><Relationship Id="rId10" Type="http://schemas.openxmlformats.org/officeDocument/2006/relationships/image" Target="../media/image78.jpeg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p1.blogger.com/_od0KfUND3QQ/RwoYKKj11fI/AAAAAAAABaM/o0MMnER71IQ/s1600-h/toamna_apuseni_0051.jpg" TargetMode="External"/><Relationship Id="rId2" Type="http://schemas.openxmlformats.org/officeDocument/2006/relationships/image" Target="../media/image81.jpeg"/><Relationship Id="rId3" Type="http://schemas.openxmlformats.org/officeDocument/2006/relationships/hyperlink" Target="http://bp3.blogger.com/_od0KfUND3QQ/RwoYKqj11gI/AAAAAAAABaU/iFAnh5e24RQ/s1600-h/toamna_apuseni_0077.jpg" TargetMode="External"/><Relationship Id="rId4" Type="http://schemas.openxmlformats.org/officeDocument/2006/relationships/image" Target="../media/image82.jpeg"/><Relationship Id="rId5" Type="http://schemas.openxmlformats.org/officeDocument/2006/relationships/hyperlink" Target="http://www.carpati.org/poze_fotografii/--_muntele_nu_este_in_lista_--/batranete/22167/" TargetMode="External"/><Relationship Id="rId6" Type="http://schemas.openxmlformats.org/officeDocument/2006/relationships/image" Target="../media/image83.jpeg"/><Relationship Id="rId7" Type="http://schemas.openxmlformats.org/officeDocument/2006/relationships/image" Target="../media/image84.jpe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oerr.ro/ro/impre2.htm" TargetMode="External"/><Relationship Id="rId2" Type="http://schemas.openxmlformats.org/officeDocument/2006/relationships/image" Target="../media/image87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dorupanaitescu.ro/wp-content/uploads/2007/05/pict1324.JPG&amp;imgrefurl=http://www.dorupanaitescu.ro/category/foto/page/2&amp;h=681&amp;w=1024&amp;sz=217&amp;hl=ro&amp;start=200&amp;tbnid=oiQ6Hnsi-CUaPM:&amp;tbnh=100&amp;tbnw=150&amp;prev=/images%3Fq%3Dcarpatii%2Borientali%26start%3D180%26gbv%3D2%26ndsp%3D20%26hl%3Dro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atestatinfo.3x.ro/poze/reale/vladeasa19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atestatinfo.3x.ro/poze/reale/racatau18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ro/imgres?imgurl=http://www.visitmaramures.ro/images/media/landcsapepic/dsc02348.jpg&amp;imgrefurl=http://www.visitmaramures.ro/index.php%3Ftask%3Dcategory%26category%3Dgeography%26lg%3DRO&amp;h=311&amp;w=466&amp;sz=37&amp;hl=ro&amp;start=94&amp;tbnid=dE12SQKnLPAtUM:&amp;tbnh=85&amp;tbnw=128&amp;prev=/images%3Fq%3Dcarpatii%2B%26start%3D80%26gbv%3D2%26ndsp%3D20%26hl%3Dro%26sa%3DN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tmp/home/.config/libreoffice/4/user/gallery/camera.wav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p1.blogger.com/_od0KfUND3QQ/RrcTFtzmqKI/AAAAAAAAA34/A8U_KcrSvVI/s1600-h/capra_n_0571_4.jpg" TargetMode="External"/><Relationship Id="rId2" Type="http://schemas.openxmlformats.org/officeDocument/2006/relationships/image" Target="../media/image88.jpeg"/><Relationship Id="rId3" Type="http://schemas.openxmlformats.org/officeDocument/2006/relationships/hyperlink" Target="http://bp0.blogger.com/_od0KfUND3QQ/RrBbmNzmqBI/AAAAAAAAA2o/UdsgkDBwtrs/s1600-h/fagaras_0338.jpg" TargetMode="External"/><Relationship Id="rId4" Type="http://schemas.openxmlformats.org/officeDocument/2006/relationships/image" Target="../media/image89.jpeg"/><Relationship Id="rId5" Type="http://schemas.openxmlformats.org/officeDocument/2006/relationships/hyperlink" Target="http://bp2.blogger.com/_od0KfUND3QQ/RswxH7JxiJI/AAAAAAAAA7o/iNitJ_5sqQo/s1600-h/bucegi_0249.jpg" TargetMode="External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hyperlink" Target="http://www.animale.ro/assets/article_image/2007/11/capra_neagra.jpg" TargetMode="External"/><Relationship Id="rId9" Type="http://schemas.openxmlformats.org/officeDocument/2006/relationships/image" Target="../media/image92.jpeg"/><Relationship Id="rId10" Type="http://schemas.openxmlformats.org/officeDocument/2006/relationships/hyperlink" Target="file:///tmp/home/.config/libreoffice/4/user/gallery/camera.wav" TargetMode="External"/><Relationship Id="rId11" Type="http://schemas.openxmlformats.org/officeDocument/2006/relationships/hyperlink" Target="http://images.google.ro/imgres?imgurl=http://www.carpati.org/poze/thumb/odin/2007530173449test.JPG&amp;imgrefurl=http://www.carpati.org/ghid_montan/muntii/bucegi-7/fauna/&amp;h=1056&amp;w=1408&amp;sz=34&amp;hl=ro&amp;start=52&amp;tbnid=KZ7-jLvBClNngM:&amp;tbnh=113&amp;tbnw=150&amp;prev=/images%3Fq%3Dvultur%2Bplesuv%26start%3D40%26gbv%3D2%26ndsp%3D20%26hl%3Dro%26sa%3DN" TargetMode="External"/><Relationship Id="rId12" Type="http://schemas.openxmlformats.org/officeDocument/2006/relationships/image" Target="../media/image93.jpe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nimale.ro/assets/article_image/2007/04/327.jpg" TargetMode="External"/><Relationship Id="rId2" Type="http://schemas.openxmlformats.org/officeDocument/2006/relationships/image" Target="../media/image94.jpeg"/><Relationship Id="rId3" Type="http://schemas.openxmlformats.org/officeDocument/2006/relationships/hyperlink" Target="http://www.animale.ro/assets/article_image/2007/04/333.jpg" TargetMode="External"/><Relationship Id="rId4" Type="http://schemas.openxmlformats.org/officeDocument/2006/relationships/image" Target="../media/image95.jpeg"/><Relationship Id="rId5" Type="http://schemas.openxmlformats.org/officeDocument/2006/relationships/hyperlink" Target="http://images.google.ro/imgres?imgurl=http://www.descopera.net/doc/ursul.jpg&amp;imgrefurl=http://www.descopera.net/meniu_animale.html&amp;h=194&amp;w=230&amp;sz=62&amp;hl=ro&amp;start=238&amp;um=1&amp;tbnid=ynYSmEPmLwm1AM:&amp;tbnh=91&amp;tbnw=108&amp;prev=/images%3Fq%3Dpaduri%26start%3D220%26ndsp%3D20%26um%3D1%26hl%3Dro%26lr%3Dlang_ro%26sa%3DN" TargetMode="External"/><Relationship Id="rId6" Type="http://schemas.openxmlformats.org/officeDocument/2006/relationships/image" Target="../media/image96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hyperlink" Target="http://images.google.ro/imgres?imgurl=http://www.professionalteam.ro/imagini/bear-7.jpg&amp;imgrefurl=http://www.professionalteam.ro/ro/activitati/wild-life/program-de-iarna-expert.php&amp;h=600&amp;w=800&amp;sz=108&amp;hl=ro&amp;start=1&amp;tbnid=1_aUNiL1qRnJLM:&amp;tbnh=107&amp;tbnw=143&amp;prev=/images%3Fq%3Danimale%2Bsalbatice%26gbv%3D2%26hl%3Dro%26sa%3DG" TargetMode="External"/><Relationship Id="rId9" Type="http://schemas.openxmlformats.org/officeDocument/2006/relationships/image" Target="../media/image97.jpe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foms.ro/index.php?eID=tx_cms_showpic&amp;file=uploads%2Fpics%2Fmistret_copy.jpg&amp;width=500m&amp;height=500&amp;bodyTag=%3Cbody%20bgColor%3D%22%23ffffff%22%3E&amp;wrap=%3Ca%20href%3D%22javascript%3Aclose%28%29%3B%22%3E%20%7C%20%3C%2Fa%3E&amp;md5=312829b89f8901d98b48babe9861c665" TargetMode="External"/><Relationship Id="rId2" Type="http://schemas.openxmlformats.org/officeDocument/2006/relationships/image" Target="../media/image98.jpeg"/><Relationship Id="rId3" Type="http://schemas.openxmlformats.org/officeDocument/2006/relationships/hyperlink" Target="http://images.google.ro/imgres?imgurl=http://www.gapo.ro/poze/CRM1KS9Q0H8J5ZV.jpg&amp;imgrefurl=http://www.gapo.ro/detaliu_poza/128/5357-CRM1KS9Q0H8J5ZV.htm&amp;h=446&amp;w=720&amp;sz=70&amp;hl=ro&amp;start=8&amp;tbnid=ozPCSjMVin7ZEM:&amp;tbnh=87&amp;tbnw=140&amp;prev=/images%3Fq%3Dmistret%26gbv%3D2%26hl%3Dro%26sa%3DG" TargetMode="External"/><Relationship Id="rId4" Type="http://schemas.openxmlformats.org/officeDocument/2006/relationships/image" Target="../media/image99.jpeg"/><Relationship Id="rId5" Type="http://schemas.openxmlformats.org/officeDocument/2006/relationships/hyperlink" Target="http://images.google.ro/imgres?imgurl=http://www.wels.ro/images/animale2.jpg&amp;imgrefurl=http://www.wels.ro/index.php%3Fq%3Dfaunaflora&amp;h=140&amp;w=160&amp;sz=5&amp;hl=ro&amp;start=31&amp;tbnid=ttMFhHK_4jki0M:&amp;tbnh=86&amp;tbnw=98&amp;prev=/images%3Fq%3Dmistret%26start%3D20%26gbv%3D2%26ndsp%3D20%26hl%3Dro%26sa%3DN" TargetMode="External"/><Relationship Id="rId6" Type="http://schemas.openxmlformats.org/officeDocument/2006/relationships/image" Target="../media/image100.jpeg"/><Relationship Id="rId7" Type="http://schemas.openxmlformats.org/officeDocument/2006/relationships/image" Target="../media/image101.jpe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nimale.ro/assets/article_image/2007/04/319.jpg" TargetMode="External"/><Relationship Id="rId2" Type="http://schemas.openxmlformats.org/officeDocument/2006/relationships/image" Target="../media/image102.jpeg"/><Relationship Id="rId3" Type="http://schemas.openxmlformats.org/officeDocument/2006/relationships/hyperlink" Target="http://images.google.ro/imgres?imgurl=http://www.cjsibiu.ro/pics/caprioara.jpg&amp;imgrefurl=http://www.cjsibiu.ro/ro/rezervatii.htm&amp;h=200&amp;w=200&amp;sz=13&amp;hl=ro&amp;start=1&amp;tbnid=tw_GuTgZ8a25AM:&amp;tbnh=104&amp;tbnw=104&amp;prev=/images%3Fq%3Dflora%2Bsi%2Bfauna%2Bdin%2Bcarpati%26gbv%3D2%26hl%3Dro%26sa%3DG" TargetMode="External"/><Relationship Id="rId4" Type="http://schemas.openxmlformats.org/officeDocument/2006/relationships/image" Target="../media/image103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images.google.ro/imgres?imgurl=http://out4awalk.com/wp-content/uploads/2007/10/dama_dama_lopatar.jpg&amp;imgrefurl=http://out4awalk.com/category/mamifere/&amp;h=387&amp;w=460&amp;sz=48&amp;hl=ro&amp;start=345&amp;tbnid=y_WZbcgkIg65sM:&amp;tbnh=108&amp;tbnw=128&amp;prev=/images%3Fq%3Danimale%2Bsalbatice%26start%3D340%26gbv%3D2%26ndsp%3D20%26hl%3Dro%26sa%3DN" TargetMode="External"/><Relationship Id="rId7" Type="http://schemas.openxmlformats.org/officeDocument/2006/relationships/image" Target="../media/image104.jpeg"/><Relationship Id="rId8" Type="http://schemas.openxmlformats.org/officeDocument/2006/relationships/hyperlink" Target="http://images.google.ro/imgres?imgurl=http://www.rri.ro/images/Cerb_lopatar.jpg&amp;imgrefurl=http://www.rri.ro/art.shtml%3Flang%3D2%26sec%3D252%26art%3D406&amp;h=586&amp;w=760&amp;sz=138&amp;hl=ro&amp;start=44&amp;tbnid=QQU9zKTKewyiDM:&amp;tbnh=109&amp;tbnw=142&amp;prev=/images%3Fq%3Dmistret%26start%3D40%26gbv%3D2%26ndsp%3D20%26hl%3Dro%26sa%3DN" TargetMode="External"/><Relationship Id="rId9" Type="http://schemas.openxmlformats.org/officeDocument/2006/relationships/image" Target="../media/image105.jpeg"/><Relationship Id="rId10" Type="http://schemas.openxmlformats.org/officeDocument/2006/relationships/hyperlink" Target="http://images.google.ro/imgres?imgurl=http://bp3.blogger.com/_54k7Q-ZpAx4/RrHcM791LkI/AAAAAAAAADc/79QQ7Q1s8Es/s320/fallow%2Bpic.jpg&amp;imgrefurl=http://delta-dunarii.blogspot.com/2007_08_01_archive.html&amp;h=320&amp;w=270&amp;sz=34&amp;hl=ro&amp;start=284&amp;tbnid=SuWjHMYtVgt43M:&amp;tbnh=118&amp;tbnw=100&amp;prev=/images%3Fq%3Danimale%2Bsalbatice%26start%3D280%26gbv%3D2%26ndsp%3D20%26hl%3Dro%26sa%3DN" TargetMode="External"/><Relationship Id="rId11" Type="http://schemas.openxmlformats.org/officeDocument/2006/relationships/image" Target="../media/image106.jpe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ut4awalk.com/wp-content/uploads/2007/07/dihor.jpg" TargetMode="External"/><Relationship Id="rId2" Type="http://schemas.openxmlformats.org/officeDocument/2006/relationships/image" Target="../media/image107.jpeg"/><Relationship Id="rId3" Type="http://schemas.openxmlformats.org/officeDocument/2006/relationships/hyperlink" Target="http://ro.wikipedia.org/wiki/Imagine:Lynx_lynx2.jpg" TargetMode="External"/><Relationship Id="rId4" Type="http://schemas.openxmlformats.org/officeDocument/2006/relationships/image" Target="../media/image108.jpeg"/><Relationship Id="rId5" Type="http://schemas.openxmlformats.org/officeDocument/2006/relationships/hyperlink" Target="http://images.google.ro/imgres?imgurl=http://www.infoziare.ro/poze/thumb/mic/2007-11-05/11942157222312-131199-_pisica.jpg&amp;imgrefurl=http://www.infoziare.ro/46128/animale%2Bsalbatice%2Bdin%2Blumea%2Bnoastra&amp;h=81&amp;w=120&amp;sz=8&amp;hl=ro&amp;start=142&amp;tbnid=qXtvNgCsvj953M:&amp;tbnh=59&amp;tbnw=88&amp;prev=/images%3Fq%3Danimale%2Bsalbatice%26start%3D140%26gbv%3D2%26ndsp%3D20%26hl%3Dro%26sa%3DN" TargetMode="External"/><Relationship Id="rId6" Type="http://schemas.openxmlformats.org/officeDocument/2006/relationships/image" Target="../media/image109.jpeg"/><Relationship Id="rId7" Type="http://schemas.openxmlformats.org/officeDocument/2006/relationships/hyperlink" Target="http://images.google.ro/imgres?imgurl=http://www.neamt.ro/Imagini/Ceahlau/Ceah_082.jpg&amp;imgrefurl=http://www.imagini.neamt.ro/details.php%3Fimage_id%3D361&amp;h=445&amp;w=640&amp;sz=69&amp;hl=ro&amp;start=70&amp;tbnid=3zRPVoO7-qTofM:&amp;tbnh=95&amp;tbnw=137&amp;prev=/images%3Fq%3Djder%26start%3D60%26gbv%3D2%26ndsp%3D20%26hl%3Dro%26sa%3DN" TargetMode="External"/><Relationship Id="rId8" Type="http://schemas.openxmlformats.org/officeDocument/2006/relationships/image" Target="../media/image110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hyperlink" Target="http://images.google.ro/imgres?imgurl=http://enrin.grida.no/biodiv/biodiv/national/moldova/Img/Vidra.jpg&amp;imgrefurl=http://enrin.grida.no/biodiv/biodiv/national/moldova/biocons.htm&amp;h=311&amp;w=413&amp;sz=13&amp;hl=ro&amp;start=1&amp;tbnid=bM4DAZ0O_ngNuM:&amp;tbnh=94&amp;tbnw=125&amp;prev=/images%3Fq%3Dvidra%26gbv%3D2%26hl%3Dro%26sa%3DG" TargetMode="External"/><Relationship Id="rId11" Type="http://schemas.openxmlformats.org/officeDocument/2006/relationships/image" Target="../media/image111.jpeg"/><Relationship Id="rId12" Type="http://schemas.openxmlformats.org/officeDocument/2006/relationships/hyperlink" Target="http://images.google.ro/imgres?imgurl=http://www.schefferj.ps.hu/images/Zoo/Zoo_Gyor/Vidra1_800.jpg&amp;imgrefurl=http://www.schefferj.ps.hu/Mammals.htm&amp;h=556&amp;w=800&amp;sz=106&amp;hl=ro&amp;start=10&amp;tbnid=YN9GeNqB6TsUHM:&amp;tbnh=99&amp;tbnw=143&amp;prev=/images%3Fq%3Dvidra%26gbv%3D2%26hl%3Dro%26sa%3DG" TargetMode="External"/><Relationship Id="rId13" Type="http://schemas.openxmlformats.org/officeDocument/2006/relationships/image" Target="../media/image112.jpe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p3.blogger.com/_od0KfUND3QQ/RdHBHo7ewlI/AAAAAAAAAUA/M0RJksnFChk/s1600-h/vulpe_06.jpg" TargetMode="External"/><Relationship Id="rId2" Type="http://schemas.openxmlformats.org/officeDocument/2006/relationships/image" Target="../media/image113.jpeg"/><Relationship Id="rId3" Type="http://schemas.openxmlformats.org/officeDocument/2006/relationships/hyperlink" Target="http://bp3.blogger.com/_od0KfUND3QQ/RdHC6o7ewrI/AAAAAAAAAUw/weh8Wtd1AeU/s1600-h/vulpe_14.jpg" TargetMode="External"/><Relationship Id="rId4" Type="http://schemas.openxmlformats.org/officeDocument/2006/relationships/image" Target="../media/image114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images.google.ro/imgres?imgurl=http://www.dej.biz/files/pictures/dej_fauna3.jpg&amp;imgrefurl=http://www.dej.biz/node/2&amp;h=419&amp;w=506&amp;sz=169&amp;hl=ro&amp;start=23&amp;tbnid=WKXFooJiI0k9LM:&amp;tbnh=108&amp;tbnw=131&amp;prev=/images%3Fq%3Dmistret%26start%3D20%26gbv%3D2%26ndsp%3D20%26hl%3Dro%26sa%3DN" TargetMode="External"/><Relationship Id="rId7" Type="http://schemas.openxmlformats.org/officeDocument/2006/relationships/image" Target="../media/image115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forum.softpedia.com/foto/images/fotos/veverita-2291.jpg&amp;imgrefurl=http://forum.softpedia.com/foto/foto/2291-veverita.html&amp;h=460&amp;w=620&amp;sz=286&amp;hl=ro&amp;start=2&amp;tbnid=cMdThVsiHoVn5M:&amp;tbnh=101&amp;tbnw=136&amp;prev=/images%3Fq%3Dveverita%26gbv%3D2%26hl%3Dro%26sa%3DG" TargetMode="External"/><Relationship Id="rId2" Type="http://schemas.openxmlformats.org/officeDocument/2006/relationships/image" Target="../media/image116.jpeg"/><Relationship Id="rId3" Type="http://schemas.openxmlformats.org/officeDocument/2006/relationships/hyperlink" Target="http://images.google.ro/imgres?imgurl=http://www.metropotam.ro/La-zi/2007/03/art2958495361-De-primavara/botanica2.jpg&amp;imgrefurl=http://metropotam.ro/La-zi/2007/03/art2958495361-De-primavara/&amp;h=235&amp;w=297&amp;sz=59&amp;hl=ro&amp;start=58&amp;tbnid=0Xm0PCU9MshzsM:&amp;tbnh=92&amp;tbnw=116&amp;prev=/images%3Fq%3Dveverita%26start%3D40%26gbv%3D2%26ndsp%3D20%26hl%3Dro%26sa%3DN" TargetMode="External"/><Relationship Id="rId4" Type="http://schemas.openxmlformats.org/officeDocument/2006/relationships/image" Target="../media/image117.jpeg"/><Relationship Id="rId5" Type="http://schemas.openxmlformats.org/officeDocument/2006/relationships/hyperlink" Target="http://images.google.ro/imgres?imgurl=http://bp0.blogger.com/_d-EUILqQAtI/RxSrKdX56fI/AAAAAAAABkY/Jz3iirhMHIs/s400/Veverita%2Bin%2BManhattan%2B-%2BNew%2BYork_resize.jpg&amp;imgrefurl=http://vladdodan.blogspot.com/2007/10/american-trip-new-york.html&amp;h=268&amp;w=400&amp;sz=21&amp;hl=ro&amp;start=4&amp;tbnid=tvjWVzSphHvRfM:&amp;tbnh=83&amp;tbnw=124&amp;prev=/images%3Fq%3Dveverita%26gbv%3D2%26hl%3Dro%26sa%3DG" TargetMode="External"/><Relationship Id="rId6" Type="http://schemas.openxmlformats.org/officeDocument/2006/relationships/image" Target="../media/image118.jpeg"/><Relationship Id="rId7" Type="http://schemas.openxmlformats.org/officeDocument/2006/relationships/hyperlink" Target="http://images.google.ro/imgres?imgurl=http://i143.photobucket.com/albums/r152/carmen-minerva/stirileserii.jpg&amp;imgrefurl=http://bocancul-literar.ro/cr/4952&amp;h=550&amp;w=377&amp;sz=24&amp;hl=ro&amp;start=32&amp;tbnid=8znzo1sBnDnGoM:&amp;tbnh=133&amp;tbnw=91&amp;prev=/images%3Fq%3Dveverita%26start%3D20%26gbv%3D2%26ndsp%3D20%26hl%3Dro%26sa%3DN" TargetMode="External"/><Relationship Id="rId8" Type="http://schemas.openxmlformats.org/officeDocument/2006/relationships/image" Target="../media/image119.jpeg"/><Relationship Id="rId9" Type="http://schemas.openxmlformats.org/officeDocument/2006/relationships/hyperlink" Target="http://images.google.ro/imgres?imgurl=http://www.zooland.ro/admin/_files/newsannounce/aric.jpg&amp;imgrefurl=http://www.zooland.ro/tag/paianjeni%2Bveninosi%2B%2Btarantula&amp;h=768&amp;w=1024&amp;sz=194&amp;hl=ro&amp;start=173&amp;tbnid=1fh_medZZnIqSM:&amp;tbnh=113&amp;tbnw=150&amp;prev=/images%3Fq%3Danimale%2Bsalbatice%26start%3D160%26gbv%3D2%26ndsp%3D20%26hl%3Dro%26sa%3DN" TargetMode="External"/><Relationship Id="rId10" Type="http://schemas.openxmlformats.org/officeDocument/2006/relationships/image" Target="../media/image120.jpeg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cabaneledorulet.ro/images/atractii/parcul_retezat_resize.jpg&amp;imgrefurl=http://www.cabaneledorulet.ro/atractii.php&amp;h=113&amp;w=150&amp;sz=17&amp;hl=ro&amp;start=100&amp;tbnid=mvF6zfgi6l_zQM:&amp;tbnh=72&amp;tbnw=96&amp;prev=/images%3Fq%3Dflora%2Bsi%2Bfauna%2Bdin%2Bcarpati%26start%3D80%26gbv%3D2%26ndsp%3D20%26hl%3Dro%26sa%3DN" TargetMode="External"/><Relationship Id="rId2" Type="http://schemas.openxmlformats.org/officeDocument/2006/relationships/image" Target="../media/image121.jpeg"/><Relationship Id="rId3" Type="http://schemas.openxmlformats.org/officeDocument/2006/relationships/hyperlink" Target="http://images.google.ro/imgres?imgurl=http://www.zooland.ro/admin/_files/newsannounce/bufnita_nordica_patata_w_bnp.JPG&amp;imgrefurl=http://www.zooland.ro/1_586_Bufnita_nordica_patata_5157.html&amp;h=1123&amp;w=750&amp;sz=424&amp;hl=ro&amp;start=154&amp;um=1&amp;tbnid=g_l7N0kMj9E_EM:&amp;tbnh=150&amp;tbnw=100&amp;prev=/images%3Fq%3Dpaduri%26start%3D140%26ndsp%3D20%26um%3D1%26hl%3Dro%26lr%3Dlang_ro%26sa%3DN" TargetMode="External"/><Relationship Id="rId4" Type="http://schemas.openxmlformats.org/officeDocument/2006/relationships/image" Target="../media/image122.jpeg"/><Relationship Id="rId5" Type="http://schemas.openxmlformats.org/officeDocument/2006/relationships/hyperlink" Target="http://www.carpati.org/poze_fotografii/--_muntele_nu_este_in_lista_--/un_sturz/22175/" TargetMode="External"/><Relationship Id="rId6" Type="http://schemas.openxmlformats.org/officeDocument/2006/relationships/image" Target="../media/image123.jpeg"/><Relationship Id="rId7" Type="http://schemas.openxmlformats.org/officeDocument/2006/relationships/image" Target="../media/image124.jpeg"/><Relationship Id="rId8" Type="http://schemas.openxmlformats.org/officeDocument/2006/relationships/hyperlink" Target="http://www.carpati.org/poze_fotografii/--_muntele_nu_este_in_lista_--/codobatura/22129/" TargetMode="External"/><Relationship Id="rId9" Type="http://schemas.openxmlformats.org/officeDocument/2006/relationships/image" Target="../media/image125.jpeg"/><Relationship Id="rId10" Type="http://schemas.openxmlformats.org/officeDocument/2006/relationships/hyperlink" Target="http://www.carpati.org/poze_fotografii/--_muntele_nu_este_in_lista_--/un_pic_de_roua/22174/" TargetMode="External"/><Relationship Id="rId11" Type="http://schemas.openxmlformats.org/officeDocument/2006/relationships/image" Target="../media/image126.jpeg"/><Relationship Id="rId12" Type="http://schemas.openxmlformats.org/officeDocument/2006/relationships/hyperlink" Target="http://images.google.ro/imgres?imgurl=http://old.ournet.md/~ecosfera/articole/ec3/im/cocri2.jpg&amp;imgrefurl=http://old.ournet.md/~ecosfera/articole/ec3/delta.html&amp;h=201&amp;w=248&amp;sz=7&amp;hl=ro&amp;start=9&amp;tbnid=ktqlAq_nkF0JYM:&amp;tbnh=90&amp;tbnw=111&amp;prev=/images%3Fq%3Dflora%2Bsi%2Bfauna%2Bdin%2Bcarpati%26gbv%3D2%26hl%3Dro%26sa%3DG" TargetMode="External"/><Relationship Id="rId13" Type="http://schemas.openxmlformats.org/officeDocument/2006/relationships/image" Target="../media/image127.jpeg"/><Relationship Id="rId14" Type="http://schemas.openxmlformats.org/officeDocument/2006/relationships/hyperlink" Target="file:///tmp/home/.config/libreoffice/4/user/gallery/camera.wav" TargetMode="External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dsclex.ro/buton/totemic/mici/vultur.jpg&amp;imgrefurl=http://www.dsclex.ro/astrolog/zodiac/totemic/totemic.htm&amp;h=110&amp;w=110&amp;sz=2&amp;hl=ro&amp;start=7&amp;tbnid=G_z6PMiXfyNXdM:&amp;tbnh=85&amp;tbnw=85&amp;prev=/images%3Fq%3Dvultur%26gbv%3D2%26hl%3Dro%26sa%3DG" TargetMode="External"/><Relationship Id="rId2" Type="http://schemas.openxmlformats.org/officeDocument/2006/relationships/image" Target="../media/image128.jpeg"/><Relationship Id="rId3" Type="http://schemas.openxmlformats.org/officeDocument/2006/relationships/hyperlink" Target="http://images.google.ro/imgres?imgurl=http://www.astrosurf.com/tiotuyin/Aves%2520para%2520publicar/Condor_03533_1_0.jpg&amp;imgrefurl=http://rsanzcarrera4.wordpress.com/2007/12/08/condor-andino-vultur-gryphus/&amp;h=471&amp;w=700&amp;sz=39&amp;hl=ro&amp;start=54&amp;tbnid=jkfhU2IZDfMB_M:&amp;tbnh=94&amp;tbnw=140&amp;prev=/images%3Fq%3Dvultur%26start%3D40%26gbv%3D2%26ndsp%3D20%26hl%3Dro%26sa%3DN" TargetMode="External"/><Relationship Id="rId4" Type="http://schemas.openxmlformats.org/officeDocument/2006/relationships/image" Target="../media/image129.jpeg"/><Relationship Id="rId5" Type="http://schemas.openxmlformats.org/officeDocument/2006/relationships/hyperlink" Target="http://images.google.ro/imgres?imgurl=http://www.posteremag.ro/imagini/thumbs/_81-vultur%2520plesuv.jpg&amp;imgrefurl=http://www.posteremag.ro/cauta.php/keywords/pasare&amp;h=115&amp;w=170&amp;sz=5&amp;hl=ro&amp;start=20&amp;tbnid=GKaSwRWBPeyjCM:&amp;tbnh=67&amp;tbnw=99&amp;prev=/images%3Fq%3Dvultur%26gbv%3D2%26ndsp%3D20%26hl%3Dro%26sa%3DN" TargetMode="External"/><Relationship Id="rId6" Type="http://schemas.openxmlformats.org/officeDocument/2006/relationships/image" Target="../media/image130.jpeg"/><Relationship Id="rId7" Type="http://schemas.openxmlformats.org/officeDocument/2006/relationships/hyperlink" Target="http://images.google.ro/imgres?imgurl=http://www.homorodvalley.ro/date/23261cc66a0e7a2fdb16126911bee5be/Aqupom_thumb.jpg&amp;imgrefurl=http://www.homorodvalley.ro/fotoro.shtml%3Fmlx%3DRO%26set%255B140%255D%3Dmlx-RO%26set%255B141%255D%3Dmlx-RO%26cmd%255B151%255D%3Dc-1-c5dacf7d02e89dce04e2f5dea353b847&amp;h=110&amp;w=142&amp;sz=2&amp;hl=ro&amp;start=40&amp;tbnid=_HkZGhjLjM5wZM:&amp;tbnh=73&amp;tbnw=94&amp;prev=/images%3Fq%3Dacvila%26start%3D20%26gbv%3D2%26ndsp%3D20%26hl%3Dro%26sa%3DN" TargetMode="External"/><Relationship Id="rId8" Type="http://schemas.openxmlformats.org/officeDocument/2006/relationships/image" Target="../media/image131.jpeg"/><Relationship Id="rId9" Type="http://schemas.openxmlformats.org/officeDocument/2006/relationships/hyperlink" Target="http://images.google.ro/imgres?imgurl=http://upload.wikimedia.org/wikipedia/commons/thumb/e/e7/RupellsGriffonVultureImage.jpg/180px-RupellsGriffonVultureImage.jpg&amp;imgrefurl=http://ro.wiktionary.org/wiki/vultur&amp;h=263&amp;w=180&amp;sz=12&amp;hl=ro&amp;start=3&amp;tbnid=RpJ2WR05oNCMIM:&amp;tbnh=112&amp;tbnw=77&amp;prev=/images%3Fq%3Dvultur%2Bplesuv%26gbv%3D2%26hl%3Dro%26sa%3DG" TargetMode="External"/><Relationship Id="rId10" Type="http://schemas.openxmlformats.org/officeDocument/2006/relationships/image" Target="../media/image132.jpeg"/><Relationship Id="rId11" Type="http://schemas.openxmlformats.org/officeDocument/2006/relationships/hyperlink" Target="http://images.google.ro/imgres?imgurl=http://www.porumbei.ro/wp-content/fotografii/soim1.jpg&amp;imgrefurl=http://www.porumbei.ro/2006/11/24/interviu-cu-sergiu-robu-soimar-despre-uliul-porumbar-si-soimul-calator/&amp;h=537&amp;w=450&amp;sz=93&amp;hl=ro&amp;start=3&amp;tbnid=-Rwl9kiIiocf5M:&amp;tbnh=132&amp;tbnw=111&amp;prev=/images%3Fq%3Dsoimul%26gbv%3D2%26hl%3Dro%26sa%3DG" TargetMode="External"/><Relationship Id="rId12" Type="http://schemas.openxmlformats.org/officeDocument/2006/relationships/image" Target="../media/image133.jpeg"/><Relationship Id="rId13" Type="http://schemas.openxmlformats.org/officeDocument/2006/relationships/hyperlink" Target="http://images.google.ro/imgres?imgurl=http://www.lufo.ro/infoeducatie/Pagini/Timis/Muntii%2520Carpati/faunaimg/acvila.jpg&amp;imgrefurl=http://www.lufo.ro/infoeducatie/Pagini/Timis/Muntii%2520Carpati/lynx/pasari.htm&amp;h=221&amp;w=301&amp;sz=6&amp;hl=ro&amp;start=3&amp;tbnid=_g-0d_7LpDYRhM:&amp;tbnh=85&amp;tbnw=116&amp;prev=/images%3Fq%3Dacvila%26gbv%3D2%26hl%3Dro%26sa%3DG" TargetMode="External"/><Relationship Id="rId14" Type="http://schemas.openxmlformats.org/officeDocument/2006/relationships/image" Target="../media/image134.jpeg"/><Relationship Id="rId15" Type="http://schemas.openxmlformats.org/officeDocument/2006/relationships/image" Target="../media/image135.jpeg"/><Relationship Id="rId16" Type="http://schemas.openxmlformats.org/officeDocument/2006/relationships/image" Target="../media/image136.jpeg"/><Relationship Id="rId17" Type="http://schemas.openxmlformats.org/officeDocument/2006/relationships/hyperlink" Target="file:///tmp/home/.config/libreoffice/4/user/gallery/camera.wav" TargetMode="External"/><Relationship Id="rId1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7.jpeg"/><Relationship Id="rId2" Type="http://schemas.openxmlformats.org/officeDocument/2006/relationships/image" Target="../media/image138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p3.blogger.com/_od0KfUND3QQ/RtZnlrJxjqI/AAAAAAAABL0/Jytxp_XQaXc/s1600-h/floare_de_colt_0025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bp0.blogger.com/_od0KfUND3QQ/RtZnl7JxjsI/AAAAAAAABME/DKSWBZfOdlQ/s1600-h/floare_de_colt_0364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hyperlink" Target="http://www.carpati.org/poze_fotografii/--_muntele_nu_este_in_lista_--/ce_geaca_are_/22158/" TargetMode="External"/><Relationship Id="rId4" Type="http://schemas.openxmlformats.org/officeDocument/2006/relationships/image" Target="../media/image141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bp0.blogger.com/_od0KfUND3QQ/Rm5zWs4Gb1I/AAAAAAAAAsM/dmfjt_9Cq7U/s1600-h/rhynocoris_0928.jpg" TargetMode="External"/><Relationship Id="rId2" Type="http://schemas.openxmlformats.org/officeDocument/2006/relationships/image" Target="../media/image142.jpeg"/><Relationship Id="rId3" Type="http://schemas.openxmlformats.org/officeDocument/2006/relationships/hyperlink" Target="http://bp1.blogger.com/_od0KfUND3QQ/Rm5zW84Gb3I/AAAAAAAAAsc/leJwGX1s2DM/s1600-h/rhynocoris_0943_2.JPG" TargetMode="External"/><Relationship Id="rId4" Type="http://schemas.openxmlformats.org/officeDocument/2006/relationships/image" Target="../media/image143.jpeg"/><Relationship Id="rId5" Type="http://schemas.openxmlformats.org/officeDocument/2006/relationships/hyperlink" Target="http://bp1.blogger.com/_od0KfUND3QQ/Rs65yLJxjSI/AAAAAAAABI0/YV6EkPyHoXk/s1600-h/bucegi_0319.jpg" TargetMode="External"/><Relationship Id="rId6" Type="http://schemas.openxmlformats.org/officeDocument/2006/relationships/image" Target="../media/image144.jpeg"/><Relationship Id="rId7" Type="http://schemas.openxmlformats.org/officeDocument/2006/relationships/hyperlink" Target="http://www.animale.ro/assets/article_image/2007/09/calugarita.jpg" TargetMode="External"/><Relationship Id="rId8" Type="http://schemas.openxmlformats.org/officeDocument/2006/relationships/image" Target="../media/image145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arpati.org/poze_fotografii/bucegi/melcisori/22107/" TargetMode="External"/><Relationship Id="rId2" Type="http://schemas.openxmlformats.org/officeDocument/2006/relationships/image" Target="../media/image146.jpeg"/><Relationship Id="rId3" Type="http://schemas.openxmlformats.org/officeDocument/2006/relationships/hyperlink" Target="http://www.carpati.org/poze_fotografii/--_muntele_nu_este_in_lista_--/calul_popii/22164/" TargetMode="External"/><Relationship Id="rId4" Type="http://schemas.openxmlformats.org/officeDocument/2006/relationships/image" Target="../media/image147.jpeg"/><Relationship Id="rId5" Type="http://schemas.openxmlformats.org/officeDocument/2006/relationships/hyperlink" Target="http://www.carpati.org/poze_fotografii/--_muntele_nu_este_in_lista_--/ora_mesei_/22131/" TargetMode="External"/><Relationship Id="rId6" Type="http://schemas.openxmlformats.org/officeDocument/2006/relationships/image" Target="../media/image148.jpeg"/><Relationship Id="rId7" Type="http://schemas.openxmlformats.org/officeDocument/2006/relationships/hyperlink" Target="http://www.carpati.org/poze_fotografii/--_muntele_nu_este_in_lista_--/viespe_la_bizz-ness/22135/" TargetMode="External"/><Relationship Id="rId8" Type="http://schemas.openxmlformats.org/officeDocument/2006/relationships/image" Target="../media/image149.jpeg"/><Relationship Id="rId9" Type="http://schemas.openxmlformats.org/officeDocument/2006/relationships/hyperlink" Target="http://www.carpati.org/poze_fotografii/--_muntele_nu_este_in_lista_--/ma_odihnesc_un_pic.../22154/" TargetMode="External"/><Relationship Id="rId10" Type="http://schemas.openxmlformats.org/officeDocument/2006/relationships/image" Target="../media/image150.jpeg"/><Relationship Id="rId11" Type="http://schemas.openxmlformats.org/officeDocument/2006/relationships/hyperlink" Target="http://bp2.blogger.com/_od0KfUND3QQ/RoOA7YMYbWI/AAAAAAAAAt8/NwP300_OXu4/s1600-h/lampyris_noctiluca_1.jpg" TargetMode="External"/><Relationship Id="rId12" Type="http://schemas.openxmlformats.org/officeDocument/2006/relationships/image" Target="../media/image151.jpe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2.jpeg"/><Relationship Id="rId2" Type="http://schemas.openxmlformats.org/officeDocument/2006/relationships/hyperlink" Target="http://images.google.ro/imgres?imgurl=http://www.funromtour.ro/./galerie_foto/poza_galerie_foto___1_350.jpg&amp;imgrefurl=http://www.funromtour.ro/galerie_foto_1_diverse_inedite/inedite.htm&amp;h=450&amp;w=600&amp;sz=64&amp;hl=ro&amp;start=15&amp;tbnid=f_VlNZlSQbTDJM:&amp;tbnh=101&amp;tbnw=135&amp;prev=/images%3Fq%3Doi%26gbv%3D2%26hl%3Dro%26sa%3DG" TargetMode="External"/><Relationship Id="rId3" Type="http://schemas.openxmlformats.org/officeDocument/2006/relationships/image" Target="../media/image153.jpeg"/><Relationship Id="rId4" Type="http://schemas.openxmlformats.org/officeDocument/2006/relationships/hyperlink" Target="http://images.google.ro/imgres?imgurl=http://www.anuntu.ro/images/421655987527.jpg&amp;imgrefurl=http://www.anuntu.ro/anunturi-Diverse-Vand-diverse-vand-oi-Salaj-nranunt59122.htm&amp;h=640&amp;w=800&amp;sz=102&amp;hl=ro&amp;start=54&amp;tbnid=vCiWnji6WSlKJM:&amp;tbnh=114&amp;tbnw=143&amp;prev=/images%3Fq%3Doi%26start%3D40%26gbv%3D2%26ndsp%3D20%26hl%3Dro%26sa%3DN" TargetMode="External"/><Relationship Id="rId5" Type="http://schemas.openxmlformats.org/officeDocument/2006/relationships/image" Target="../media/image154.jpeg"/><Relationship Id="rId6" Type="http://schemas.openxmlformats.org/officeDocument/2006/relationships/hyperlink" Target="http://images.google.ro/imgres?imgurl=http://www.cabana-pietrele.ro/images/oi_in_coborire2.jpg&amp;imgrefurl=http://www.cabana-pietrele.ro/ro/trasee/trasee.htm&amp;h=500&amp;w=375&amp;sz=45&amp;hl=ro&amp;start=13&amp;tbnid=cyhOy9M95psJRM:&amp;tbnh=130&amp;tbnw=98&amp;prev=/images%3Fq%3Doi%26gbv%3D2%26ndsp%3D20%26hl%3Dro%26sa%3DN" TargetMode="External"/><Relationship Id="rId7" Type="http://schemas.openxmlformats.org/officeDocument/2006/relationships/image" Target="../media/image155.jpeg"/><Relationship Id="rId8" Type="http://schemas.openxmlformats.org/officeDocument/2006/relationships/hyperlink" Target="http://images.google.ro/imgres?imgurl=http://www.bretea-romana.ro/imagini/foto_potential/cioban_intre_oi_tn.jpg&amp;imgrefurl=http://www.bretea-romana.ro/turism.htm&amp;h=218&amp;w=290&amp;sz=30&amp;hl=ro&amp;start=19&amp;tbnid=yUHYyXpXgavrdM:&amp;tbnh=86&amp;tbnw=115&amp;prev=/images%3Fq%3Doi%26gbv%3D2%26ndsp%3D20%26hl%3Dro%26sa%3DN" TargetMode="External"/><Relationship Id="rId9" Type="http://schemas.openxmlformats.org/officeDocument/2006/relationships/image" Target="../media/image156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flowers.mountainguide.ro/big/flori_%2520(11).jpg&amp;imgrefurl=http://flowers.mountainguide.ro/&amp;h=560&amp;w=600&amp;sz=119&amp;hl=ro&amp;start=5&amp;tbnid=ZwI0mOBQrTYf_M:&amp;tbnh=126&amp;tbnw=135&amp;prev=/images%3Fq%3Dflori%2Bde%2Bmunte%26gbv%3D2%26hl%3Dro%26sa%3D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ro/imgres?imgurl=http://www.lufo.ro/infoeducatie/Pagini/Timis/Muntii%2520Carpati/floraimg/garofita_de_munte-dianthus_gelidus.jpg&amp;imgrefurl=http://www.lufo.ro/infoeducatie/Pagini/Timis/Muntii%2520Carpati/lynx/flori.htm&amp;h=224&amp;w=272&amp;sz=10&amp;hl=ro&amp;start=11&amp;tbnid=zEjWH4iJgEMTnM:&amp;tbnh=93&amp;tbnw=113&amp;prev=/images%3Fq%3Dflori%2Bde%2Bmunte%26gbv%3D2%26hl%3Dro%26sa%3D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ro/imgres?imgurl=http://www.floripentruea.ro/img/flowers/thumbs/normal/627_45acd2c18480f.jpg&amp;imgrefurl=http://www.floripentruea.ro/produs/627/azaleea_on_stam.html&amp;h=399&amp;w=354&amp;sz=55&amp;hl=ro&amp;start=7&amp;tbnid=msRSbm4SzVlq4M:&amp;tbnh=124&amp;tbnw=110&amp;prev=/images%3Fq%3Dflori%2Bde%2Bmunte%26gbv%3D2%26hl%3Dro%26sa%3D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hyperlink" Target="http://www.penexport.ro/ro/shop/imgprod/soc1a.jpg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ro/imgres?imgurl=http://www.klevertravel.ro/img_lifestyle/mare_512_0708151900.jpg&amp;imgrefurl=http://www.klevertravel.ro/lifestyle/Cu_rucsacul_in_spate_prin_Carpati_(1).html&amp;h=323&amp;w=262&amp;sz=24&amp;hl=ro&amp;start=160&amp;tbnid=Nx3aQ1CGzv5yJM:&amp;tbnh=118&amp;tbnw=96&amp;prev=/images%3Fq%3Dcarpatii%2Borientali%26start%3D140%26gbv%3D2%26ndsp%3D20%26hl%3Dro%26sa%3DN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images.google.ro/imgres?imgurl=http://www.visitmaramures.ro/images/media/landcsapepic/violetspring.jpg&amp;imgrefurl=http://www.visitmaramures.ro/index.php%3Ftask%3Dcategory%26category%3Dgeography%26lg%3DRO&amp;h=346&amp;w=519&amp;sz=58&amp;hl=ro&amp;start=208&amp;tbnid=T2D_RQUBbS7ZCM:&amp;tbnh=87&amp;tbnw=131&amp;prev=/images%3Fq%3Dcarpatii%2Borientali%26start%3D200%26gbv%3D2%26ndsp%3D20%26hl%3Dro%26sa%3DN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file:///tmp/home/.config/libreoffice/4/user/gallery/camera.wav" TargetMode="External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p3.blogger.com/_od0KfUND3QQ/RrLkQdzmqCI/AAAAAAAAA20/4Q5Dh-MvDBI/s1600-h/fagaras_fl_0649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bp1.blogger.com/_od0KfUND3QQ/RrLkm9zmqII/AAAAAAAAA3k/cZPoYMF32yc/s1600-h/fagaras_fl_0600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bp1.blogger.com/_od0KfUND3QQ/RrLkQ9zmqDI/AAAAAAAAA28/LweQj4uosmE/s1600-h/fagaras_fl_0651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bp3.blogger.com/_od0KfUND3QQ/RrLkRdzmqEI/AAAAAAAAA3E/Duti2-azyto/s1600-h/fagaras_fl_0658.jp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bp1.blogger.com/_od0KfUND3QQ/RrLkS9zmqGI/AAAAAAAAA3U/VlLT684i8bY/s1600-h/fagaras_fl_0672.jpg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bp3.blogger.com/_od0KfUND3QQ/Rm5zWc4Gb0I/AAAAAAAAAsE/WLvmEEPqe2k/s1600-h/c_tureni_0905.jpg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p1.blogger.com/_od0KfUND3QQ/Rnt8_s4Gb9I/AAAAAAAAAtk/WoVo5sFtM2I/s1600-h/c_tureni_70987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bp1.blogger.com/_od0KfUND3QQ/Rnt8_s4Gb-I/AAAAAAAAAts/7Pu_mjeWN0I/s1600-h/c_tureni_71007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bp2.blogger.com/_od0KfUND3QQ/Rm0_3c4GbsI/AAAAAAAAAqs/vyBvrXUxnXw/s1600-h/c_turzii_90874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bp2.blogger.com/_od0KfUND3QQ/RkwHLbr7XFI/AAAAAAAAAlk/Thp-5TdB9os/s1600-h/tureni_0962.jpg" TargetMode="External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hyperlink" Target="http://www.carpati.org/poze_fotografii/--_muntele_nu_este_in_lista_--/nu_ma_uita/22108/" TargetMode="External"/><Relationship Id="rId11" Type="http://schemas.openxmlformats.org/officeDocument/2006/relationships/image" Target="../media/image29.jpeg"/><Relationship Id="rId12" Type="http://schemas.openxmlformats.org/officeDocument/2006/relationships/hyperlink" Target="file:///tmp/home/.config/libreoffice/4/user/gallery/camera.wav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brasov.ro/nou/images/garofita.jpg&amp;imgrefurl=http://www.brasov.ro/nou/rezervatii.php&amp;h=400&amp;w=533&amp;sz=62&amp;hl=ro&amp;start=4&amp;tbnid=m3nnykcIzrT0DM:&amp;tbnh=99&amp;tbnw=132&amp;prev=/images%3Fq%3Dflora%2Bsi%2Bfauna%2Bdin%2Bcarpati%26gbv%3D2%26hl%3Dro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ro/imgres?imgurl=http://www.domogled-cerna.ro/images/Satyrium%2520w-album%2520(Knoch,%25201782).jpg&amp;imgrefurl=http://www.domogled-cerna.ro/Fauna.html&amp;h=1974&amp;w=2878&amp;sz=764&amp;hl=ro&amp;start=6&amp;tbnid=4UkUvoa9rejfoM:&amp;tbnh=103&amp;tbnw=150&amp;prev=/images%3Fq%3Dflora%2Bsi%2Bfauna%2Bdin%2Bcarpati%26gbv%3D2%26hl%3Dro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www.carpati.org/poze_fotografii/--_muntele_nu_este_in_lista_--/lucerna/22137/" TargetMode="External"/><Relationship Id="rId6" Type="http://schemas.openxmlformats.org/officeDocument/2006/relationships/image" Target="../media/image32.jpeg"/><Relationship Id="rId7" Type="http://schemas.openxmlformats.org/officeDocument/2006/relationships/hyperlink" Target="http://www.carpati.org/poze_fotografii/--_muntele_nu_este_in_lista_--/ce_mica_sunt.../22136/" TargetMode="External"/><Relationship Id="rId8" Type="http://schemas.openxmlformats.org/officeDocument/2006/relationships/image" Target="../media/image33.jpeg"/><Relationship Id="rId9" Type="http://schemas.openxmlformats.org/officeDocument/2006/relationships/hyperlink" Target="http://www.carpati.org/poze_fotografii/--_muntele_nu_este_in_lista_--/clopotel/22168/" TargetMode="External"/><Relationship Id="rId10" Type="http://schemas.openxmlformats.org/officeDocument/2006/relationships/image" Target="../media/image34.jpeg"/><Relationship Id="rId11" Type="http://schemas.openxmlformats.org/officeDocument/2006/relationships/hyperlink" Target="http://www.carpati.org/poze_fotografii/--_muntele_nu_este_in_lista_--/sunatoare/22163/" TargetMode="External"/><Relationship Id="rId12" Type="http://schemas.openxmlformats.org/officeDocument/2006/relationships/image" Target="../media/image35.jpeg"/><Relationship Id="rId13" Type="http://schemas.openxmlformats.org/officeDocument/2006/relationships/hyperlink" Target="http://www.carpati.org/poze_fotografii/--_muntele_nu_este_in_lista_--/garofita/22110/" TargetMode="External"/><Relationship Id="rId14" Type="http://schemas.openxmlformats.org/officeDocument/2006/relationships/image" Target="../media/image36.jpeg"/><Relationship Id="rId15" Type="http://schemas.openxmlformats.org/officeDocument/2006/relationships/hyperlink" Target="http://www.carpati.org/poze_fotografii/--_muntele_nu_este_in_lista_--/stiti_cum_se_numesc_/22126/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www.carpati.org/poze_fotografii/--_muntele_nu_este_in_lista_--/fisss_-tic/22130/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www.carpati.org/poze_fotografii/--_muntele_nu_este_in_lista_--/ciufulici/22145/" TargetMode="External"/><Relationship Id="rId20" Type="http://schemas.openxmlformats.org/officeDocument/2006/relationships/image" Target="../media/image39.jpeg"/><Relationship Id="rId21" Type="http://schemas.openxmlformats.org/officeDocument/2006/relationships/hyperlink" Target="http://www.carpati.org/poze_fotografii/--_muntele_nu_este_in_lista_--/buchetel/22170/" TargetMode="External"/><Relationship Id="rId22" Type="http://schemas.openxmlformats.org/officeDocument/2006/relationships/image" Target="../media/image40.jpeg"/><Relationship Id="rId23" Type="http://schemas.openxmlformats.org/officeDocument/2006/relationships/hyperlink" Target="http://www.carpati.org/poze_fotografii/--_muntele_nu_este_in_lista_--/anghinare/22155/" TargetMode="External"/><Relationship Id="rId24" Type="http://schemas.openxmlformats.org/officeDocument/2006/relationships/image" Target="../media/image41.jpeg"/><Relationship Id="rId25" Type="http://schemas.openxmlformats.org/officeDocument/2006/relationships/hyperlink" Target="http://www.carpati.org/poze_fotografii/--_muntele_nu_este_in_lista_--/fantezie/22118/" TargetMode="External"/><Relationship Id="rId26" Type="http://schemas.openxmlformats.org/officeDocument/2006/relationships/image" Target="../media/image42.jpeg"/><Relationship Id="rId27" Type="http://schemas.openxmlformats.org/officeDocument/2006/relationships/hyperlink" Target="file:///tmp/home/.config/libreoffice/4/user/gallery/camera.wav" TargetMode="External"/><Relationship Id="rId2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rpati.org/poze_fotografii/--_muntele_nu_este_in_lista_--/ma_iubeste_nu_ma_iubeste_ma_iubeste_/22157/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carpati.org/poze_fotografii/--_muntele_nu_este_in_lista_--/si_din_patru_cati_au_fost_au_ramas_doar_trei/22153/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www.carpati.org/poze_fotografii/--_muntele_nu_este_in_lista_--/o_steluta_ce-a_cazut_in_iarba/22139/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www.carpati.org/poze_fotografii/--_muntele_nu_este_in_lista_--/floare_de_fraguta/22147/" TargetMode="External"/><Relationship Id="rId8" Type="http://schemas.openxmlformats.org/officeDocument/2006/relationships/image" Target="../media/image46.jpeg"/><Relationship Id="rId9" Type="http://schemas.openxmlformats.org/officeDocument/2006/relationships/hyperlink" Target="http://www.carpati.org/poze_fotografii/--_muntele_nu_este_in_lista_--/cicoare/22156/" TargetMode="External"/><Relationship Id="rId10" Type="http://schemas.openxmlformats.org/officeDocument/2006/relationships/image" Target="../media/image47.jpeg"/><Relationship Id="rId11" Type="http://schemas.openxmlformats.org/officeDocument/2006/relationships/hyperlink" Target="http://www.carpati.org/poze_fotografii/--_muntele_nu_este_in_lista_--/doi_ochi_dar_nu_albastrii_/22169/" TargetMode="External"/><Relationship Id="rId12" Type="http://schemas.openxmlformats.org/officeDocument/2006/relationships/image" Target="../media/image48.jpeg"/><Relationship Id="rId13" Type="http://schemas.openxmlformats.org/officeDocument/2006/relationships/hyperlink" Target="http://www.carpati.org/poze_fotografii/baiului/stanjenel/22114/" TargetMode="External"/><Relationship Id="rId14" Type="http://schemas.openxmlformats.org/officeDocument/2006/relationships/image" Target="../media/image49.jpeg"/><Relationship Id="rId15" Type="http://schemas.openxmlformats.org/officeDocument/2006/relationships/hyperlink" Target="http://ro.wikipedia.org/wiki/Imagine:Flora_Piatra_Craiului.jpg" TargetMode="External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hyperlink" Target="http://www.infomontan.ro/Galerie/files/56.html" TargetMode="External"/><Relationship Id="rId19" Type="http://schemas.openxmlformats.org/officeDocument/2006/relationships/image" Target="../media/image52.jpeg"/><Relationship Id="rId20" Type="http://schemas.openxmlformats.org/officeDocument/2006/relationships/hyperlink" Target="http://www.infomontan.ro/Galerie/files/58.html" TargetMode="External"/><Relationship Id="rId21" Type="http://schemas.openxmlformats.org/officeDocument/2006/relationships/image" Target="../media/image53.jpeg"/><Relationship Id="rId22" Type="http://schemas.openxmlformats.org/officeDocument/2006/relationships/hyperlink" Target="http://www.infomontan.ro/Galerie/files/57.html" TargetMode="External"/><Relationship Id="rId23" Type="http://schemas.openxmlformats.org/officeDocument/2006/relationships/image" Target="../media/image54.jpeg"/><Relationship Id="rId24" Type="http://schemas.openxmlformats.org/officeDocument/2006/relationships/hyperlink" Target="http://images.google.ro/imgres?imgurl=http://bucegi.trei.ro/Floareadecolt.jpg&amp;imgrefurl=http://bucegi.trei.ro/Zone.html&amp;h=585&amp;w=399&amp;sz=37&amp;hl=ro&amp;start=380&amp;tbnid=yyPnhxqKhzmwFM:&amp;tbnh=135&amp;tbnw=92&amp;prev=/images%3Fq%3Dflora%2Bsi%2Bfauna%2Bdin%2Bcarpati%26start%3D360%26gbv%3D2%26ndsp%3D20%26hl%3Dro%26sa%3DN" TargetMode="External"/><Relationship Id="rId25" Type="http://schemas.openxmlformats.org/officeDocument/2006/relationships/image" Target="../media/image55.jpeg"/><Relationship Id="rId26" Type="http://schemas.openxmlformats.org/officeDocument/2006/relationships/hyperlink" Target="file:///tmp/home/.config/libreoffice/4/user/gallery/camera.wav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hyperlink" Target="http://images.google.ro/imgres?imgurl=http://www.apmph.ro/1-CASTAN-P0009833.jpg&amp;imgrefurl=http://www.apmph.ro/06_01_06_10_mai_2006.htm&amp;h=1536&amp;w=1024&amp;sz=664&amp;hl=ro&amp;start=9&amp;um=1&amp;tbnid=iycnP5CUive3eM:&amp;tbnh=150&amp;tbnw=100&amp;prev=/images%3Fq%3Dpaduri%26um%3D1%26hl%3Dro%26lr%3Dlang_ro%26sa%3DG" TargetMode="External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arpa</a:t>
            </a:r>
            <a:r>
              <a:rPr b="0" lang="ro-RO" sz="57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i  Rom</a:t>
            </a:r>
            <a:r>
              <a:rPr b="0" lang="ro-RO" sz="5700" spc="-1" strike="noStrike">
                <a:solidFill>
                  <a:srgbClr val="ffffcc"/>
                </a:solidFill>
                <a:latin typeface="Arial"/>
              </a:rPr>
              <a:t>â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ei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lora </a:t>
            </a:r>
            <a:r>
              <a:rPr b="0" lang="ro-RO" sz="5700" spc="-1" strike="noStrike">
                <a:solidFill>
                  <a:srgbClr val="ffffcc"/>
                </a:solidFill>
                <a:latin typeface="Arial"/>
              </a:rPr>
              <a:t>ş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 faun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" action="ppaction://hlinkshowjump?jump=nextslide"/>
            <a:hlinkClick r:id="rId1"/>
          </p:cNvPr>
          <p:cNvSpPr/>
          <p:nvPr/>
        </p:nvSpPr>
        <p:spPr>
          <a:xfrm>
            <a:off x="441972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brad_4324.jpg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2292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  <a:hlinkClick r:id="rId2"/>
          </p:cNvPr>
          <p:cNvSpPr/>
          <p:nvPr/>
        </p:nvSpPr>
        <p:spPr>
          <a:xfrm>
            <a:off x="44197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ructe de pădu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886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523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Fragut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990720"/>
            <a:ext cx="2514600" cy="243036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  <a:hlinkClick r:id="rId11"/>
          </p:cNvPr>
          <p:cNvSpPr/>
          <p:nvPr/>
        </p:nvSpPr>
        <p:spPr>
          <a:xfrm>
            <a:off x="434340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Afin"/>
          <p:cNvPicPr/>
          <p:nvPr/>
        </p:nvPicPr>
        <p:blipFill>
          <a:blip r:embed="rId1"/>
          <a:stretch/>
        </p:blipFill>
        <p:spPr>
          <a:xfrm>
            <a:off x="228600" y="304920"/>
            <a:ext cx="2743200" cy="2060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fin"/>
          <p:cNvPicPr/>
          <p:nvPr/>
        </p:nvPicPr>
        <p:blipFill>
          <a:blip r:embed="rId4"/>
          <a:stretch/>
        </p:blipFill>
        <p:spPr>
          <a:xfrm>
            <a:off x="6400800" y="4495680"/>
            <a:ext cx="2743200" cy="1941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20574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Murari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3880" y="4952880"/>
            <a:ext cx="2286000" cy="17082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" action="ppaction://hlinkshowjump?jump=nextslide"/>
            <a:hlinkClick r:id="rId9"/>
          </p:cNvPr>
          <p:cNvSpPr/>
          <p:nvPr/>
        </p:nvSpPr>
        <p:spPr>
          <a:xfrm>
            <a:off x="411480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124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Buturugi cu muşchi şi ciuperc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buturugi.jpg"/>
          <p:cNvPicPr/>
          <p:nvPr/>
        </p:nvPicPr>
        <p:blipFill>
          <a:blip r:embed="rId1"/>
          <a:stretch/>
        </p:blipFill>
        <p:spPr>
          <a:xfrm>
            <a:off x="304920" y="1371600"/>
            <a:ext cx="3933720" cy="4695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Buturuga color.jpg"/>
          <p:cNvPicPr/>
          <p:nvPr/>
        </p:nvPicPr>
        <p:blipFill>
          <a:blip r:embed="rId2"/>
          <a:stretch/>
        </p:blipFill>
        <p:spPr>
          <a:xfrm>
            <a:off x="4419720" y="1905120"/>
            <a:ext cx="4495680" cy="36846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  <a:hlinkClick r:id="rId3"/>
          </p:cNvPr>
          <p:cNvSpPr/>
          <p:nvPr/>
        </p:nvSpPr>
        <p:spPr>
          <a:xfrm>
            <a:off x="434340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Ciuperc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363760"/>
            <a:ext cx="3047760" cy="2287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43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Ce sa fie, ce sa fie?&#13;&#10;Ou sau ciuperca?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4956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Palaria sarpelui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723960"/>
            <a:ext cx="2590920" cy="1935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Umbrelut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685800"/>
            <a:ext cx="2895840" cy="2160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  <a:hlinkClick r:id="rId11"/>
          </p:cNvPr>
          <p:cNvSpPr/>
          <p:nvPr/>
        </p:nvSpPr>
        <p:spPr>
          <a:xfrm>
            <a:off x="403848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manita                                                     hrib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" descr="amanita.jpg"/>
          <p:cNvPicPr/>
          <p:nvPr/>
        </p:nvPicPr>
        <p:blipFill>
          <a:blip r:embed="rId1"/>
          <a:stretch/>
        </p:blipFill>
        <p:spPr>
          <a:xfrm>
            <a:off x="228600" y="914400"/>
            <a:ext cx="4381560" cy="3390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hribu-color.jpg"/>
          <p:cNvPicPr/>
          <p:nvPr/>
        </p:nvPicPr>
        <p:blipFill>
          <a:blip r:embed="rId2"/>
          <a:stretch/>
        </p:blipFill>
        <p:spPr>
          <a:xfrm>
            <a:off x="4572000" y="2895480"/>
            <a:ext cx="4381560" cy="307656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nextslide"/>
            <a:hlinkClick r:id="rId3"/>
          </p:cNvPr>
          <p:cNvSpPr/>
          <p:nvPr/>
        </p:nvSpPr>
        <p:spPr>
          <a:xfrm>
            <a:off x="373392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2286000"/>
            <a:ext cx="3257640" cy="4343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Batrane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009800"/>
            <a:ext cx="2286000" cy="1707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Hribi"/>
          <p:cNvPicPr/>
          <p:nvPr/>
        </p:nvPicPr>
        <p:blipFill>
          <a:blip r:embed="rId7"/>
          <a:stretch/>
        </p:blipFill>
        <p:spPr>
          <a:xfrm>
            <a:off x="3429000" y="3809880"/>
            <a:ext cx="2286000" cy="169704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  <a:hlinkClick r:id="rId8"/>
          </p:cNvPr>
          <p:cNvSpPr/>
          <p:nvPr/>
        </p:nvSpPr>
        <p:spPr>
          <a:xfrm>
            <a:off x="396252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Animale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crotite </a:t>
            </a: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din Carpaţi - zimbr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848720" cy="523224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  <a:hlinkClick r:id="rId2"/>
          </p:cNvPr>
          <p:cNvSpPr/>
          <p:nvPr/>
        </p:nvSpPr>
        <p:spPr>
          <a:xfrm>
            <a:off x="43434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ZERVATIA DE ZIMBRI NEAM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14400" y="1297080"/>
            <a:ext cx="7543800" cy="50162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43434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zerv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natural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M.H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085760"/>
            <a:ext cx="8153280" cy="547524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" action="ppaction://hlinkshowjump?jump=nextslide"/>
            <a:hlinkClick r:id="rId3"/>
          </p:cNvPr>
          <p:cNvSpPr/>
          <p:nvPr/>
        </p:nvSpPr>
        <p:spPr>
          <a:xfrm>
            <a:off x="4343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ora 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şi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auna din Carp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434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3047760" cy="216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371600"/>
            <a:ext cx="2362320" cy="1595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2971800"/>
            <a:ext cx="2363760" cy="358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1600200"/>
            <a:ext cx="3124440" cy="20732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  <a:hlinkClick r:id="rId10"/>
          </p:cNvPr>
          <p:cNvSpPr/>
          <p:nvPr/>
        </p:nvSpPr>
        <p:spPr>
          <a:xfrm>
            <a:off x="4343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228600" y="4114800"/>
            <a:ext cx="28576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7467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pra neagr</a:t>
            </a: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ă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86200"/>
            <a:ext cx="3352680" cy="2432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809880"/>
            <a:ext cx="3581640" cy="2395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838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2743200" y="1600200"/>
            <a:ext cx="2590920" cy="230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Capra neagra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685800"/>
            <a:ext cx="200016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  <a:hlinkClick r:id="rId10"/>
          </p:cNvPr>
          <p:cNvSpPr/>
          <p:nvPr/>
        </p:nvSpPr>
        <p:spPr>
          <a:xfrm>
            <a:off x="419112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3886200"/>
            <a:ext cx="2438640" cy="18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r>
              <a:rPr b="0" lang="ro-RO" sz="2000" spc="-1" strike="noStrike">
                <a:solidFill>
                  <a:srgbClr val="eaeaea"/>
                </a:solidFill>
                <a:latin typeface="Verdana"/>
              </a:rPr>
              <a:t>Ursul                                                Lupu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4" name="" descr="Lu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4880" y="1219320"/>
            <a:ext cx="3129120" cy="4647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Urs carpat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219320"/>
            <a:ext cx="3759120" cy="5638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267080"/>
            <a:ext cx="2666880" cy="224640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nextslide"/>
            <a:hlinkClick r:id="rId7"/>
          </p:cNvPr>
          <p:cNvSpPr/>
          <p:nvPr/>
        </p:nvSpPr>
        <p:spPr>
          <a:xfrm>
            <a:off x="68580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1219320"/>
            <a:ext cx="243828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Mistreţul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914400"/>
            <a:ext cx="4343400" cy="3400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495680"/>
            <a:ext cx="2895480" cy="1798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295280"/>
            <a:ext cx="2210040" cy="1671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4648320" y="3200400"/>
            <a:ext cx="4190760" cy="329400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nextslide"/>
            <a:hlinkClick r:id="rId8"/>
          </p:cNvPr>
          <p:cNvSpPr/>
          <p:nvPr/>
        </p:nvSpPr>
        <p:spPr>
          <a:xfrm>
            <a:off x="4267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Caprioa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914400"/>
            <a:ext cx="4647960" cy="3105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Căprioara  şi cerbul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  <a:hlinkClick r:id="rId5"/>
          </p:cNvPr>
          <p:cNvSpPr/>
          <p:nvPr/>
        </p:nvSpPr>
        <p:spPr>
          <a:xfrm>
            <a:off x="52578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914400"/>
            <a:ext cx="3733920" cy="3152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352680" y="3886200"/>
            <a:ext cx="3200400" cy="2459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781680" y="4038480"/>
            <a:ext cx="20019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4582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RÂSUL      DIHORUL     PISICA SĂLBATIC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                            </a:t>
            </a: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JDERUL                 Vid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3" name="" descr="dihorul mustela putor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295280"/>
            <a:ext cx="2590560" cy="2148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Râs (Lynx lynx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29528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143000"/>
            <a:ext cx="1752480" cy="1174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3429000"/>
            <a:ext cx="2819520" cy="195588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  <a:hlinkClick r:id="rId9"/>
          </p:cNvPr>
          <p:cNvSpPr/>
          <p:nvPr/>
        </p:nvSpPr>
        <p:spPr>
          <a:xfrm>
            <a:off x="48006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0" y="228600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781680" y="4038480"/>
            <a:ext cx="2362320" cy="163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6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Vulpea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87480" cy="3733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838080"/>
            <a:ext cx="4952880" cy="266220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20040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3733920"/>
            <a:ext cx="4267440" cy="257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VEVERIŢA                  ARICI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143000"/>
            <a:ext cx="2514600" cy="1866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2286000" cy="1812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28195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3276720"/>
            <a:ext cx="1981080" cy="2895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4120" y="1066680"/>
            <a:ext cx="3047760" cy="22957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  <a:hlinkClick r:id="rId11"/>
          </p:cNvPr>
          <p:cNvSpPr/>
          <p:nvPr/>
        </p:nvSpPr>
        <p:spPr>
          <a:xfrm>
            <a:off x="419112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Păsăr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657600"/>
            <a:ext cx="2082960" cy="2895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Un sturz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228600"/>
            <a:ext cx="2239920" cy="2971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ciconia ciconia-barza alba"/>
          <p:cNvPicPr/>
          <p:nvPr/>
        </p:nvPicPr>
        <p:blipFill>
          <a:blip r:embed="rId7"/>
          <a:stretch/>
        </p:blipFill>
        <p:spPr>
          <a:xfrm>
            <a:off x="2895480" y="1981080"/>
            <a:ext cx="3276720" cy="2119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Codobatura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114800"/>
            <a:ext cx="2286000" cy="2239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Un pic de rou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1148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05320" y="380880"/>
            <a:ext cx="213336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" action="ppaction://hlinkshowjump?jump=nextslide"/>
            <a:hlinkClick r:id="rId14"/>
          </p:cNvPr>
          <p:cNvSpPr/>
          <p:nvPr/>
        </p:nvSpPr>
        <p:spPr>
          <a:xfrm>
            <a:off x="44197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Verdana"/>
              </a:rPr>
              <a:t>Vulturul               acvila                  şoimul           uliul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2819520" cy="1893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525780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2286000"/>
            <a:ext cx="2209680" cy="1716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99072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762120"/>
            <a:ext cx="1665360" cy="2133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29000" y="6858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5"/>
          <a:stretch/>
        </p:blipFill>
        <p:spPr>
          <a:xfrm>
            <a:off x="4343400" y="3886200"/>
            <a:ext cx="1847880" cy="2743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6"/>
          <a:stretch/>
        </p:blipFill>
        <p:spPr>
          <a:xfrm>
            <a:off x="6553080" y="3048120"/>
            <a:ext cx="2438640" cy="213336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  <a:hlinkClick r:id="rId17"/>
          </p:cNvPr>
          <p:cNvSpPr/>
          <p:nvPr/>
        </p:nvSpPr>
        <p:spPr>
          <a:xfrm>
            <a:off x="35053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Liliac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liliac-cazut.jpg"/>
          <p:cNvPicPr/>
          <p:nvPr/>
        </p:nvPicPr>
        <p:blipFill>
          <a:blip r:embed="rId1"/>
          <a:stretch/>
        </p:blipFill>
        <p:spPr>
          <a:xfrm>
            <a:off x="533520" y="1371600"/>
            <a:ext cx="3733560" cy="2671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5029200" cy="279252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  <a:hlinkClick r:id="rId3"/>
          </p:cNvPr>
          <p:cNvSpPr/>
          <p:nvPr/>
        </p:nvSpPr>
        <p:spPr>
          <a:xfrm>
            <a:off x="426708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Floarea de colţ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905120"/>
            <a:ext cx="2771640" cy="3504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143000"/>
            <a:ext cx="3429000" cy="238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floare de colt"/>
          <p:cNvPicPr/>
          <p:nvPr/>
        </p:nvPicPr>
        <p:blipFill>
          <a:blip r:embed="rId5"/>
          <a:stretch/>
        </p:blipFill>
        <p:spPr>
          <a:xfrm>
            <a:off x="3429000" y="380988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[floare_de_colt_0027.jpg]"/>
          <p:cNvPicPr/>
          <p:nvPr/>
        </p:nvPicPr>
        <p:blipFill>
          <a:blip r:embed="rId6"/>
          <a:stretch/>
        </p:blipFill>
        <p:spPr>
          <a:xfrm>
            <a:off x="0" y="1143000"/>
            <a:ext cx="354348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  <a:hlinkClick r:id="rId7"/>
          </p:cNvPr>
          <p:cNvSpPr/>
          <p:nvPr/>
        </p:nvSpPr>
        <p:spPr>
          <a:xfrm>
            <a:off x="44197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Reptile: salamndra, vipera, şopâr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3733920" cy="1573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3444840" cy="4572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Ce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3352680"/>
            <a:ext cx="3276720" cy="244656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" action="ppaction://hlinkshowjump?jump=nextslide"/>
            <a:hlinkClick r:id="rId5"/>
          </p:cNvPr>
          <p:cNvSpPr/>
          <p:nvPr/>
        </p:nvSpPr>
        <p:spPr>
          <a:xfrm>
            <a:off x="449568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4038480"/>
            <a:ext cx="3733920" cy="2567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609480"/>
            <a:ext cx="3810240" cy="3148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Calugarit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905120"/>
            <a:ext cx="2671560" cy="2971800"/>
          </a:xfrm>
          <a:prstGeom prst="rect">
            <a:avLst/>
          </a:prstGeom>
          <a:ln w="0">
            <a:noFill/>
          </a:ln>
        </p:spPr>
      </p:pic>
      <p:sp>
        <p:nvSpPr>
          <p:cNvPr id="315" name="">
            <a:hlinkClick r:id="" action="ppaction://hlinkshowjump?jump=nextslide"/>
            <a:hlinkClick r:id="rId9"/>
          </p:cNvPr>
          <p:cNvSpPr/>
          <p:nvPr/>
        </p:nvSpPr>
        <p:spPr>
          <a:xfrm>
            <a:off x="61722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Melcisor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Calul popi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066680"/>
            <a:ext cx="2667240" cy="1990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Ora mesei!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0384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Viespe la bizz-nes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3962520"/>
            <a:ext cx="2819160" cy="2106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Ma odihnesc un pic..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1219320"/>
            <a:ext cx="3200400" cy="23875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43200" y="2971800"/>
            <a:ext cx="3048120" cy="249552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  <a:hlinkClick r:id="rId13"/>
          </p:cNvPr>
          <p:cNvSpPr/>
          <p:nvPr/>
        </p:nvSpPr>
        <p:spPr>
          <a:xfrm>
            <a:off x="502920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Turme de oi pe munt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4" name="" descr="Crescătorii de animale din Borşa ameninţă cu ocuparea unor păşuni din Cîrlibaba"/>
          <p:cNvPicPr/>
          <p:nvPr/>
        </p:nvPicPr>
        <p:blipFill>
          <a:blip r:embed="rId1"/>
          <a:stretch/>
        </p:blipFill>
        <p:spPr>
          <a:xfrm>
            <a:off x="2743200" y="1371600"/>
            <a:ext cx="2749680" cy="36576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0666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4038480"/>
            <a:ext cx="2361960" cy="1882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3600" y="3276720"/>
            <a:ext cx="2413080" cy="32004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1047600"/>
            <a:ext cx="2743200" cy="20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5627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OR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LOPOTEL       garofita de munte  </a:t>
            </a:r>
            <a:r>
              <a:rPr b="0" lang="ro-RO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trandafiri </a:t>
            </a:r>
            <a:r>
              <a:rPr b="0" lang="ro-RO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eaeaea"/>
                </a:solidFill>
                <a:latin typeface="Verdana"/>
              </a:rPr>
              <a:t>sângele voiniculu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447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1447920"/>
            <a:ext cx="182592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angele voinicului"/>
          <p:cNvPicPr/>
          <p:nvPr/>
        </p:nvPicPr>
        <p:blipFill>
          <a:blip r:embed="rId7"/>
          <a:stretch/>
        </p:blipFill>
        <p:spPr>
          <a:xfrm>
            <a:off x="6629400" y="1371600"/>
            <a:ext cx="209880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41148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05520" y="4343400"/>
            <a:ext cx="148752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62320" y="3733920"/>
            <a:ext cx="281916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  <a:hlinkClick r:id="rId14"/>
          </p:cNvPr>
          <p:cNvSpPr/>
          <p:nvPr/>
        </p:nvSpPr>
        <p:spPr>
          <a:xfrm>
            <a:off x="350532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ori din F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58128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5053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3581280"/>
            <a:ext cx="2098800" cy="3124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920" y="22860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8380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838080"/>
            <a:ext cx="1942920" cy="25909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  <a:hlinkClick r:id="rId13"/>
          </p:cNvPr>
          <p:cNvSpPr/>
          <p:nvPr/>
        </p:nvSpPr>
        <p:spPr>
          <a:xfrm>
            <a:off x="57150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429000"/>
            <a:ext cx="2919600" cy="3124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5053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35053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2286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garofita dianthus spiculifolius"/>
          <p:cNvPicPr/>
          <p:nvPr/>
        </p:nvPicPr>
        <p:blipFill>
          <a:blip r:embed="rId9"/>
          <a:stretch/>
        </p:blipFill>
        <p:spPr>
          <a:xfrm>
            <a:off x="6172200" y="22860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Nu ma uit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228600"/>
            <a:ext cx="241164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7150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86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2286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Lucern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2860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Ce mica sunt..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1371600"/>
            <a:ext cx="1676520" cy="1252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Clopote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9000" y="2362320"/>
            <a:ext cx="1752480" cy="1307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Sunatoar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06668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Garofita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232416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Stiti cum se numesc?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81480" y="352440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Fisss!-tic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828800" y="3657600"/>
            <a:ext cx="1676520" cy="1252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Ciufulici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0" y="251460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Buchetel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4800600"/>
            <a:ext cx="1905120" cy="1424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nghinare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858000" y="487692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Fantezi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505320" y="4800600"/>
            <a:ext cx="1904760" cy="142092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  <a:hlinkClick r:id="rId27"/>
          </p:cNvPr>
          <p:cNvSpPr/>
          <p:nvPr/>
        </p:nvSpPr>
        <p:spPr>
          <a:xfrm>
            <a:off x="41148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Ma iubeste,&#13;&#10;Nu ma iubeste,&#13;&#10;Ma iubest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1809720" cy="1351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Si din patru cati au fost&#13;&#10;Au ramas doar tre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648320"/>
            <a:ext cx="213372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O steluta ce-a cazut in iarb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1295280"/>
            <a:ext cx="1828800" cy="136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Floare de fragut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228600"/>
            <a:ext cx="1676520" cy="1252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Cicoar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259092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Doi ochi (dar nu albastrii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81080" y="1295280"/>
            <a:ext cx="1752840" cy="1309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Stanjene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2666880"/>
            <a:ext cx="1600200" cy="1195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Flora Piatra Craiului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76720" y="2590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Floare de colţ"/>
          <p:cNvPicPr/>
          <p:nvPr/>
        </p:nvPicPr>
        <p:blipFill>
          <a:blip r:embed="rId17"/>
          <a:stretch/>
        </p:blipFill>
        <p:spPr>
          <a:xfrm>
            <a:off x="5791320" y="3962520"/>
            <a:ext cx="1981080" cy="1401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violete de munt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81680" y="5334120"/>
            <a:ext cx="2057400" cy="128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violete de creast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28600" y="5257800"/>
            <a:ext cx="1905120" cy="116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clopotei crescuti in munti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657600" y="228600"/>
            <a:ext cx="1828800" cy="1119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978200" y="4114800"/>
            <a:ext cx="129852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  <a:hlinkClick r:id="rId26"/>
          </p:cNvPr>
          <p:cNvSpPr/>
          <p:nvPr/>
        </p:nvSpPr>
        <p:spPr>
          <a:xfrm>
            <a:off x="380988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3049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Brazi şi stejar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" descr="Paduri de conifere in Munţii Gutâi"/>
          <p:cNvPicPr/>
          <p:nvPr/>
        </p:nvPicPr>
        <p:blipFill>
          <a:blip r:embed="rId1"/>
          <a:stretch/>
        </p:blipFill>
        <p:spPr>
          <a:xfrm>
            <a:off x="3200400" y="9144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99072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0" y="762120"/>
            <a:ext cx="3135240" cy="457200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nextslide"/>
            <a:hlinkClick r:id="rId6"/>
          </p:cNvPr>
          <p:cNvSpPr/>
          <p:nvPr/>
        </p:nvSpPr>
        <p:spPr>
          <a:xfrm>
            <a:off x="39625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9:22:18Z</dcterms:created>
  <dc:creator>Bud</dc:creator>
  <dc:description/>
  <dc:language>en-US</dc:language>
  <cp:lastModifiedBy>IULIA</cp:lastModifiedBy>
  <dcterms:modified xsi:type="dcterms:W3CDTF">2009-10-10T19:30:53Z</dcterms:modified>
  <cp:revision>12</cp:revision>
  <dc:subject/>
  <dc:title>CARPATII</dc:title>
</cp:coreProperties>
</file>